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jpeg" ContentType="image/jpeg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8C0-5D4C-4F29-A2CD-4D650410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577-EE1F-4AA5-BC7F-6C6CF829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C0F-7FBE-4C9A-A6FF-4C445CBF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0C4-4BD4-45A8-B076-43A33E95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9B97-D9F7-40EC-8844-C857664F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B563-257A-4DC2-A916-3F965FD5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03F0-AC83-4B42-9125-6082BE2C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F6C7-3234-4E20-A35C-43E3B117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9EA-74D5-4DA2-A9BC-2DAEF182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05CB-4626-45BB-80A0-90852AE0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4217-E0EA-41C7-BC3B-7E20A88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3AA-D8E6-4949-A79C-A493F61F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8B8B-317F-45DC-B68C-FBD2B13D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0224-3705-4912-BA6A-8489D444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09A6-F125-4EF6-AEA5-60079D07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9ED1-DC37-4BC8-AF8F-B2F100CE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D3F-F774-4D14-8CCE-30B9B7E5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D86-74BF-4410-AEDE-29B0342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DDA-A3B8-4791-B5C4-5C6F4AB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A1A-47FB-4A07-A46D-1CEFDD63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1BE-5BCF-44FC-B9F0-C2368A4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4B3-B138-408C-987E-FA956DDE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901-CD15-4336-927C-A0E4457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938-8206-47B6-8A8A-9F5EEE69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E88A-010E-4812-97A9-CE97AA2C8BAF}" type="datetime3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C585-3AFD-48F5-922E-BE278A10A4B7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5C2D-9F7E-4465-98EB-E1CE50FE09EF}" type="datetime3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B6AD-8318-4A11-ACC7-BECDD2C3F0E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BattleOfMidwayEyewitnessDescription420604.wav" TargetMode="External"/><Relationship Id="rId3" Type="http://schemas.microsoft.com/office/2007/relationships/media" Target="file:///tmp/home/.config/libreoffice/4/user/gallery/BattleOfMidwayEyewitnessDescription420604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World War 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ory in Jap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85F1-A1C2-4946-B51E-080D18F552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80AF91-13A6-4CED-B53C-FF046AABAB1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5238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x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ig problem facing the Americans was that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panese would never surr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invasion of Japan would cost 100 000s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120-E7FC-40E6-A91F-DB06D1AF63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F22BB-C8DD-4F67-A284-64C8B195A5B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51C-5C0D-45F8-936C-A5CAF9CE90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EDA22-A7FA-4DA8-842F-69196B2C0B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0457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5C5-7434-4208-A205-411451AA6D7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85BE7-C23F-46EA-A5DE-A46C4D136A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FFB-9A7B-4180-A33D-F0D93F968C9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57D17-9FB2-413B-AD3C-7AF0D0D89C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AD0-2C00-4153-84C0-7A323FDC9BA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E89DA-D04D-4D47-8D38-5AC85237AE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705-8276-4041-B402-DF8ED595286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ECA17-9A11-4750-A29D-5169DF5990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1304"/>
                </a:solidFill>
                <a:latin typeface="Times New Roman"/>
              </a:rPr>
              <a:t>Japanese fleet finally destroyed in largest naval battle in history- B. of Leyte Gulf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622-7E3C-4DFD-9337-4150AB6437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DBEE1-0C7E-41C1-8236-7EFBF7B5FF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mericans land at Iwo Jim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598-5082-4AA9-9FE3-D0A24B8E0F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7AB86-C309-4F0F-947B-C2D3EED135D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523880"/>
            <a:ext cx="76960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hattan Project 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erican project to create a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b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oughout the course of the war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ericans and Germans were in a race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 the Atomic bom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mericans finished first because the Naz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ientists who were close to a solution wer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m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ies were very luc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ola Gay, drops first b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9E6-93D7-45E5-84CD-C042271428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87101-47E0-4ECC-8B26-AC85C8DE6F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523880"/>
            <a:ext cx="77724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Hiroshima, Aug 6, 19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Nagasaki, Aug 8, 19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Japan’s unconditional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surrender, Aug 14,19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8BE-7E1F-44BC-B1EA-FEAC5AF73E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EBA9C-CF95-4329-BFB6-96D6476B8F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view Victory 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ctory in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 P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st Next Friday - Treaty of Versailles to end of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BB9-B639-4650-A171-F733A7337C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DABE5-9991-4A17-8A87-BA0D9E4B6CF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600200"/>
            <a:ext cx="76201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ions and historians have been very critical of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erican’s use of the Atomic Bomb, especially 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gasa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le reasons for dropping the bom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quickly end the war and spare Americ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revenge on the Japanese for the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est their terrible new weap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0D3-52D3-46BC-A6BA-C8D85B29FF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310E1-D74E-4D17-A511-9157371571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60020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end a warning to the Stalin and the Soviets.  Th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ns felt this would give them the advantage at the negotiating table when the Allies began to divid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oils of w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069-C827-4600-92A7-BB9E743E3B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0ED8A-CD2B-4948-8919-FE4E453830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05520" y="2895480"/>
            <a:ext cx="3733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. J. Robert Oppenhe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d of the Manhatta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DB5-7731-4640-9E2E-2C9E952B652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01D69-4182-4491-B7F1-F97E9C727A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4A2-3FA5-44C6-B25A-CE750E9D813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405A8-074A-480C-A282-9DAACCE769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572000" cy="53341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Fat Man and Little Bo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D17-C951-4A64-8DE0-BA20915828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0E921-9E7C-44B8-9AFB-F63F613DEE7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811-70EF-4E84-98D1-40E874C3451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F8C29-3CC7-4351-9EAA-3CB64131B0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2D7-9B6A-4219-ACAA-28DA7E60C39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83740-9E75-4F67-982E-5BA0692F13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1AD-E6E8-4202-A629-4C7323FA301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08462-7747-41E8-ADC8-A323FEF976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BB3-6EF9-46F3-8FF4-8D1A6277EE82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2D4B2-C9E5-4F54-BB46-4D7635857D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252-7234-47E0-A3B7-6FBE77EB7C0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1F348-6036-4D86-A69B-E122487F8E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I.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600200"/>
            <a:ext cx="7696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gr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pan relied on trade to feed population an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ize.  They were in desperate need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ression of 1929 hurt trade and hit Japa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31, Japanese decide to acquire territory tha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give them raw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pan invades Manchuria which belonged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ina, receives 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F48-1549-42B8-95F3-C7B16140D7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8490E-97AA-4D8A-932F-31F97BDD72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5800" y="380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gasa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434-D29B-4B41-86C6-6801AA3499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3202E-9A4A-4D50-9A03-62BF0D0810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gasa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47E-86CA-45C7-B431-19192EDCFD7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0478F-34A5-4D00-99F1-EF1342D2D5D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28600" y="548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rning -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824-436B-4347-BB26-8CE51CEF1358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1F9F6-E342-44CD-9FDC-4FF3CCDE66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BAD-D93A-4F57-9BAD-6CE205C4D13F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A18FE-2C68-43F0-91D3-A5367600EA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B9D-A08C-4A7B-9D1E-C9EF07E4246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30FBE-59AE-47A5-BEBB-1C5DA9B1A2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EBC-736E-442B-9EB1-FFA8EF87F97B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575CA-CC04-4C1C-B56D-C7FCC90656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End of WW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chu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eater East Asia Co-prosperity 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hattan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ic B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J 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ola G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ti-Comintern 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ttle of Mid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 Man and Little 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D69-5220-48FE-9B5C-8E2864C89F89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F638D-0202-46EB-A214-113F64F908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5238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tionally,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i-Comintern Pa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ade Japa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ies with Fascists in Euro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gue of Nations does li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sence of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sions not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not use military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F20-479A-4639-B3AB-1684DAC93B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6E60E-5ECF-493D-8CF3-583AC3DA43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600200"/>
            <a:ext cx="7772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37, Japanese resume war with China to creat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y Japanese Emp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reater East Asia Co-prosperity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ly nation left in Japan’s way was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arl Harbour, Dec 7, 1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panese ultimately insured both Germany’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Japan’s defeat through this 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919-07E3-4894-B821-31F2EA8FCB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197B6-2DA3-42FB-BFBD-010A397E4E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52388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arl Harbour could have been worse for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eric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destroyers and battleships 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Aircraft carriers escaped h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ve the Americans the ability to have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ensive force in the Pacif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ttack on Pearl Harbour started a massiv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mament program for the USA.  They built up thei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my, navy and air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07B-8E50-42AA-A0A0-596913B51E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9F1B8-A362-4480-9468-F660A455C7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15238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ericans adopt a “Europe-first”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will attack and defeat Germany and Ita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then move o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Japanese initially thought they could not b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pped and celebrated victory over the Americ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victory was short l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E11-1F8F-4A38-A40F-A945D037F0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EE6AA-693E-4936-9511-D9C0A1C3F5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523880"/>
            <a:ext cx="7772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i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ttack of 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mericans devise a plan for planes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mb Tokyo and then try to make it to Chin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re they could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kyo is bombed, but no American plan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 it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undermined Japanese conf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panese decide to take Midway Island so the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have warning of any future America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EFC-442D-42F2-B54A-ADAEB911D7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4F3B1-7643-4C64-BE91-96DB92854C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ctory in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523880"/>
            <a:ext cx="76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e Japanese were crushed at Midway and the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Times New Roman"/>
              </a:rPr>
              <a:t>Battle of Midway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is seen as a major turning point in the Pacific W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 30 WWII - Victory in Jap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F4E-6474-44AC-9EA6-F1108AC8BC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74CF0-0DC2-4386-8691-1CA7721AAF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18:06:26Z</dcterms:created>
  <dc:creator>M.E. LaZerte</dc:creator>
  <dc:description/>
  <dc:language>en-US</dc:language>
  <cp:lastModifiedBy>A2</cp:lastModifiedBy>
  <dcterms:modified xsi:type="dcterms:W3CDTF">2004-10-17T00:55:14Z</dcterms:modified>
  <cp:revision>16</cp:revision>
  <dc:subject/>
  <dc:title>The End of WWII</dc:title>
</cp:coreProperties>
</file>